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3B7-3EB9-46F0-8B5C-75481F88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417-67BD-4CB5-8CED-FE37A8C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E7BCB-52E4-4578-A4A1-3076F1B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9EDDE-62F3-4455-B2AF-7C4D0500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D1DB2-44C2-4788-8A1E-F0B9045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F85EC-F869-4D90-9F0E-A1EFF6F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504F2-9823-477B-9A7D-E8CBB6B0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B4B43-3188-46D6-8DC1-41D4E17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5EAE4-A350-409A-9B12-06A97927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D48FA-5456-422C-A504-5C7DF85E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A859A-A57A-452F-B7F6-06566988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231FC-8961-4114-8D12-8D1A02D8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150-8CA6-4A7C-861E-D278003D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5BADD-B5B1-4FA4-95C9-4FAC487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52D43-9307-46FD-A27D-3E38C39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3063D-3D8F-438D-A36F-1A597F2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FE3D1-D938-4B57-AC82-BF081C3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93664-1709-43C0-9223-E7725F8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07CE8-4AD1-4652-B810-7A7202E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9A72B-36A9-4E4D-8E8D-5F7A585F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0C3CD-44CD-4BAD-AB7F-6951C9F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94A88-EEDB-4DD1-A81D-20DF091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8C300-351A-4755-8373-E910D1D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964-8116-4D37-A6E5-742FED39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A2567-2FDE-412C-9F1F-9BE9A9BA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92F23-E10D-4723-8242-2F6E3567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4D3B0-C83C-4492-88FB-045FB31F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33ADB-D152-4FFD-B7B0-84E9E99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8CDA-14BB-49F2-B899-109AB50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F4A6D-F73D-4D67-A1BD-9634E89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DF8F3-3382-4F38-812E-40FC148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74C72-35EE-4371-B697-A5873B1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43CAA-56B6-478D-A109-F976BE0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2CEA8-3239-436A-9062-DBC3292E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059-71A8-4F47-AAB6-2E109871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D788F-1FCC-42B3-8E24-D27E4055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6359B-366B-4376-8248-A9720C01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DD5BE-E3D5-4661-9EEA-593D5784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17EFD-BCDE-4D71-8C6B-412173C4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1F216-A58D-4DE1-B8E7-6D3E5D5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04556-0EC8-4966-901B-914446F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BC3D6-AB92-44D8-AA5B-10418D3F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E57E0-EB2C-476D-8BC0-BABC645C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4B32A-3EEA-44A1-91EB-11CE46F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75A0C-A3E6-4CFB-8FE7-946982A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DF00-B061-4CEE-9CDC-9E4C406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1ACF6-1935-4F8F-A207-269FDEA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758B4-2CB6-4162-BEF1-CFCA836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D5D99-F5A9-4B60-8743-5BDA4F4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53963-F0FD-409F-A864-EA380931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76CDC-83B6-4506-9ECB-AB8A5DB7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2417-993C-4476-A878-EE1A79F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97B-3379-4792-B109-7CCA7751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774-41CB-4A5F-A6AA-87B0027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14E2-20DA-41A2-B9A0-B6BB8F9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EB47-6D51-4DC2-8B3A-5FCD831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665-18C0-4D9F-A9F8-6ABF793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2BB-D038-4581-A35D-509CC25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0D1D-5DBB-4791-BD77-B56C9A6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3FBA-6552-4C5A-A279-A4AD404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5B3B-B22B-4AC0-B3D9-56C6E8D4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DC5-0278-4950-9F41-6E97C38A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F834-0E10-4DBE-AE7A-2C18FA9F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B146-DCD2-418A-90C8-B8EF1929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54EB-B211-430C-BFF9-A5CA299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3447-3E1A-45A3-B5A2-4F8642F7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7542-2E22-4ECD-A974-7EBA628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D39-F7F7-46A1-8BCC-A3093C6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6A25-C449-4F65-A3C9-976EF22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42F2-566D-46A4-945D-F41A03A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71D8-02EA-46D6-8E09-E3F2EE6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ECBC-F0DC-4CC8-A1FE-44765D6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94AF-1652-48C6-B03C-23ABA62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221E-D8D5-4602-B293-65EADE80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63B2-89CC-4929-A41F-F9A90168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53D8-BBC4-4CB6-AA2F-E906F0B1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8A1D-EA82-4E59-8711-7C8D493F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376C-B253-463F-AEE9-C50916FD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412-7A9B-4416-8029-0EAA0FBE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FF1D-32CC-4DE4-BC31-7A417A1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FFAD-F0DA-4B59-8427-1002ACF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E02F-E578-4880-BA88-4D48C6A4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1852-EC5C-4898-9D1F-3071E15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F1E0-4975-4B30-8F7B-D16B5D7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76CE-C726-4863-BFBA-155476F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DD4A-284D-4198-9F12-7F1A73AB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4AEE-8119-4E01-8F8E-A8FC17E8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A319-EA87-42B3-AF07-6B17189A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4C63-CBE5-4343-95B9-AB105251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E0C-8F06-4CC2-9ACE-7082F56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B9AF8-BAA5-49B0-A022-0795BF5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7DDE-321B-405F-95B5-72436549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DB4F-B851-4E49-AECF-D74C023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4C53-342B-489B-9DBD-5492A5A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5993-073A-46B6-BBB0-B72B029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CE40-EFF9-417B-9C11-8F4E368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9881-3C00-4940-8B37-5F871C7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6940-8F4D-4897-98BC-003FC72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A713-A518-4836-BE4B-D8E8834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DF28-FC93-4F54-8C2E-6E364254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44B-1D43-4CA4-9620-02194621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2CA3-4211-4CCC-AB78-4C1CC12C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B9D7-194D-4F56-963B-74675799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0196-ADD0-459E-B994-D7BFFC0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A789-B9D0-46AA-A0E9-76532982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AB7E-2E3C-4077-8853-52EAD77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160F-563B-4E51-8F00-0066B3C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0D26-7B93-4410-85A7-E346CA9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5247-42D6-4890-B15D-2737AA1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1566-8FFE-490D-9AEF-C421A41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CFE7-6F42-4CF8-A745-F379B18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87A-9EDB-4318-9096-6C04CE0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A5FE-B4B6-4B55-9115-5960346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880D-F11B-40F7-BE59-9B9946EF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C0C0-4048-4BE2-B0CE-DB7A7B2F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CC88-2FF4-4916-A81F-9BA33901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7E28-DFAE-4EC7-AA77-AFFC2ED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0D57-FCD3-4916-B693-D703875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D61A1-4C1A-4F2E-84E1-E9802259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A4E3C-61C5-4E4B-9B4A-EE2EEDFB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35AC-3DDE-4C19-AC8A-7ACF7A5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8272-5455-4726-8BEB-25A223B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366-9E85-49D1-9916-173D91F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35F6-A819-498D-A3D1-8230681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9556B-D8BD-4E71-9553-7F25E37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B0993-5EFA-47A8-A063-203149B3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D280-A752-4F2B-AE6E-067D766D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5BC5-ED2D-4963-882F-15E8EB0C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4A85-37B8-4950-8764-34782D4B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05862-8378-4380-BD54-DBFAF493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050F-C5DD-461A-9C80-B0B8769A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A330-CCA9-4F53-BACD-6F9DBA1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61E09-FA14-49D2-9D99-F5B341E5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635-5F59-4094-B30E-5AB9175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26D7-969F-4792-95F3-039AE97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043A-BC5E-4DAA-BC9C-E5FB824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36EF-F5FC-4F12-8AC3-24ECDAA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81F0C-1865-4B4E-AE72-7D01C20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47E57-FF94-4210-AF04-5164F80C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95138-ADC1-4D5A-9018-C14E5D67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23BD-B42B-495A-8EAA-2ED5C9E9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D382A-7A3E-4B6B-B5B9-ED3D1C0A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A472E-3F05-4531-83BC-46FAAEB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A329E-0223-48F2-96C3-245A0CA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A64-92D1-41E3-90A8-66C6C6FEA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F62-5AEA-4015-BCA2-23E7BD757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538-F43E-49BE-A402-5A332DFC5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E02-06B9-4E79-86FA-758B86F60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73FD-EFAB-4368-887F-41F52074A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B10E-891F-45E7-A434-9E3EE96BF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B421-43EC-4F73-9F99-57EA190EA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95A6-21C5-4BDA-8F0E-08604663A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93F-FE0D-44D7-AC42-669FE9599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736-1765-4431-8F63-AC6038409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7CF1-40EA-4FF4-A155-C17BEAA8F7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698C-75F9-420E-A7D8-46DF0DBB8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ANDA CUNHA, ASHLEY KERSHAW, TARA LEVINE, AND MADELINE STENK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MRS. MCNELIS’S THIRD BLOCK CLASS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dicting Height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Residual 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21765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s a good model because the residual plot is scattered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4906800" y="1581120"/>
            <a:ext cx="3826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Males: larger y-intercep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slopes are about the same , but the y-intercept for the males is larger because they are tall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 = 0.566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males: smaller y-intercep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females have a smaller y-intercept because they are shorter which makes their LSR line  lower on the graph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 = 0.693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st Mode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514600" y="160020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m s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est correlation (.866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st fit for the residual plo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Ashle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Tar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28240" y="2362320"/>
            <a:ext cx="4343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64)=64.5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6-64.54=1.46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7960" y="2362320"/>
            <a:ext cx="426708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59.75)=61.20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0-61.204=-1.204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Group Members’ Residuals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Actual-predicted=residual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7"/>
          <p:cNvSpPr/>
          <p:nvPr/>
        </p:nvSpPr>
        <p:spPr>
          <a:xfrm>
            <a:off x="152280" y="4952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62)=62.9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4-62.97=1.03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152280" y="3657600"/>
            <a:ext cx="4419720" cy="109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adel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s. Matter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r. Timm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 14.3+ .785(69.5)= </a:t>
            </a:r>
            <a:r>
              <a:rPr b="0" lang="en-US" sz="2500" spc="-1" strike="noStrike">
                <a:solidFill>
                  <a:srgbClr val="7f7f7f"/>
                </a:solidFill>
                <a:latin typeface="Georgia"/>
              </a:rPr>
              <a:t>68.86 inch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e are confident about this prediction because on the arm span graph, her arm span is not far off from others’, so it does not have high leverag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723920" y="2362320"/>
            <a:ext cx="40388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eight= 14.3+ .785(74)= </a:t>
            </a:r>
            <a:r>
              <a:rPr b="0" lang="en-US" sz="2300" spc="-1" strike="noStrike">
                <a:solidFill>
                  <a:srgbClr val="7f7f7f"/>
                </a:solidFill>
                <a:latin typeface="Georgia"/>
              </a:rPr>
              <a:t>72.39 inch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e are fairly confident about our prediction because Mr. Timmons arm span is within the x range although it is towards the end where there are not many data points from which to base prediction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edictions for Teachers’ Heigh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as &amp; Error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specify whether or not to take off socks--affects h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specify which hand to measure and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exact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re on wrist to end the measurement-- affects hand s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times approximated to tallies on the board-- affects accuracy of the  height measu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a ruler after the tape measure ran out-- may have made arm span calculations less accur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surements in Inche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igh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od up against the wall without shoes 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m sp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er finger tip to the other pointer finger ti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ircumference of the hea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er finger tip to crease of wrist   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Scatter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192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ly stro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86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0.7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14.3+0.785(arm span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4952880" y="218124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Residual 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920" y="26665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plot is a good linear model because the residual plot is scattered without a patter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21765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ales: steep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ly taller and have a larger arm spa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656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emales: small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ly shorter and have a smaller arm sp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787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Scatter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648320" y="1752120"/>
            <a:ext cx="44956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utlier at 20 inch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lever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fluenti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56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0.32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 = 8.6+2.58(headsiz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826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Residual 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723920" y="251460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fter removing the outlier, this plot became a good fit because it is scattered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407880" y="1835280"/>
            <a:ext cx="3826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0520" y="217656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ale: larg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ad size generally is larg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4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emale: small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ven without the outlier, the head size for the females was generally small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145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Scatter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28240" y="1676520"/>
            <a:ext cx="442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ly stro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75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0.57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27.3+5.51(handsiz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1:35Z</dcterms:created>
  <dc:creator>Kershaw.A343</dc:creator>
  <dc:description/>
  <dc:language>en-US</dc:language>
  <cp:lastModifiedBy>Tara Levine</cp:lastModifiedBy>
  <dcterms:modified xsi:type="dcterms:W3CDTF">2010-10-12T21:38:01Z</dcterms:modified>
  <cp:revision>14</cp:revision>
  <dc:subject/>
  <dc:title>Predicting Heights</dc:title>
</cp:coreProperties>
</file>